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475A-C686-4EA8-AC6D-CDA171064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2EC3-047B-40DF-A0FF-6A811747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9845F0-F152-4D36-901F-C8EE96E7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7964CA-1444-4E39-93A6-2D6B65DF5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F2697-D9C5-4249-A567-00E3CADB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CE6F6-7555-496E-BEAF-CAAD3A61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8E62D6-08B6-486B-8CC1-2AB69EB8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755F1-23AE-4772-B477-D9FBEED2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CF0C8D-F350-4E94-8292-28C5D744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94CE0-0BF3-4400-91F8-E20EBCBF6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EFC1E-AC12-46C0-AAD4-6FD2B233C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B8A1B2-56B0-446F-8132-BD722DD48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0D73-27CD-4393-912E-E866B7BDB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E5118C-241E-48C6-9B88-8765FFE6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5B898B-8282-4CC8-BC76-373C4B86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F791FC-FBEA-4CC0-B7C0-30A32AFD8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F1E9E-A963-4370-B79B-A6ACCA55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CB5A77-69F4-40AA-BBB1-C52C650B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F0A3A3-20F4-4E11-8E4A-87D8C35D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235039-B4C8-48FF-BE25-903764CC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CE774B-8FAB-48A7-AC93-10385229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98D7D4-4D80-4F37-A99E-8DB361BC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C14CC7-ECB0-4616-B0E9-9F9C0029A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0434-DC5F-4EAD-8A3D-D7FF82569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1402BB-0583-46A1-AE59-BF87FF73D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603E7-94E7-4692-8D2C-92BA92EF9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F3650-32EB-4F95-9440-229193F8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E1E2D8-E4C8-4E37-90A6-77F3E0FB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2FE1B6-19AA-403D-B534-08C8D3FA6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440D4-4AC7-4E80-AABF-26B0C0515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82A30C-59F7-4477-AB7A-1963711D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A22210-1424-40ED-A19D-4F138DD6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2C99F-F946-4F04-9B88-65D7FC6F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1547B-520F-483E-B670-555EA874C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F09D1-8077-4B6F-9261-468779EDD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C7236-88CD-4AF8-8342-B96D3BE40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D3B12-B56B-4060-8077-1AD305054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D67F7-4F44-4198-AF67-89171D683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D9F414-D43B-4F7F-8637-BC987B6C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721C6B-EE52-45CF-B1BE-4252213D9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3AD607-E843-4131-AFE6-8AC9C220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B3F04E-FE72-4EFF-8D62-1BD70B43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BFF20-BD61-47D3-9DED-5B8F37B3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EF5EFF-8922-47A9-9E81-AE4EC178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134AF1-12FA-4ED5-A3D1-DD507269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5EBBD-D14F-467F-9439-04C30F1C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A3B0C2-5E27-4D54-983B-BB4E3D6D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4A65CF-8F86-4A53-AB37-BF22F1DD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7ADEEF-9F8D-426C-A402-ED1E481F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6721AF-042A-4E0C-BCE1-FAA8D09CE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0C6A1-E17F-490B-8DC2-A6F4B349A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6278CE-7F4D-4D2A-A0F3-8750EEDE6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9D2242-5B13-41D7-BC89-FECB6253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593375-C403-45D3-B9AB-B648A123A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EAF861-8F9E-45A4-8E01-95B60378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D845E4-5DD3-4C48-B6C1-A6E44A0CE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8F6E-9CC1-459C-9CE2-F11D81E8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C20EA8-05BA-404D-B2E1-897A1CCE7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792D08-F665-4BA3-9ADC-D4602B81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854094-484A-4645-BDFA-C681E2C1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F7113C-CF1F-462F-A795-DEFBE44C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649F01-06EE-4F42-9B88-D9FD61C2F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025C4F-5FE4-4E19-AE21-DBA428A31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15BAA4-CC22-415F-A484-4F4C27C09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BB2148-96C0-4146-89C1-ED4C03C9A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699E43-F1E6-4FC5-91C2-96DA4ADD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06D087-AC22-4874-B28E-436F8F65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4548-B269-4400-B99A-BA5907C6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87BD2F-86F4-439D-B759-AF966D17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F745F0-F668-4720-BCB3-1C3E178C7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FBF3C2-B52C-4523-B504-69D75F78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F60AE5-A546-4633-A063-D5625020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8E8765-C0D1-427D-8F15-59BF5B40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483EFC-5AC3-4058-ACD9-18248BAB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EEE1E1-C8DC-4E52-AC84-D7600BB0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BDC3B3-1A76-4E02-8731-8A2549997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6A4F78-38CD-4C6B-9C4F-A084309BA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AEF5CD-6477-40EE-96AF-4AA6011D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F324-CECE-4EA7-AA3A-73D0EDA7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13D1F3-506A-47AC-887B-81D04D957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4349B3-AE2F-46B1-AF4A-64603E70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69EC05-5AEB-4DD6-A431-78606A4E6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41ECB7-6FDF-4B1C-984E-6DBDCE90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96CF3E-4394-45BD-8466-10C76609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C54C91-65D1-4E6B-96A9-2FCC0CEC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4BC184-B476-46FD-BC8E-CDCBA089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55A59B-4701-4821-8449-31036CE2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7F499B-B581-40A3-9AB1-60F416708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78453E-172B-4ECF-8322-4AF801146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A25B-DF3F-4C91-9F04-624B1B962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104471-E4EB-421B-A673-CC4FB95B2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F7F29D-7ED6-46E7-95AF-F21983D9B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E88380-A5B3-4943-8301-CE62C5CE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52A84B-DD86-4904-88BD-BF26C205F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037998-E76F-4FBF-9AE4-1B49A314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7EFB3FE-9C4B-4BA2-945F-44AB90321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2496F0-0A8D-4860-B161-66F73450F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CFDE65-2B41-4832-B387-7E7B79DDB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0F6877-C06C-49B5-96C5-67C60B26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19B070-5516-4D9F-B491-89C2C87BE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43B8-01E6-4EF2-BA46-D2307029E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823E78-0164-4447-9E17-71A967159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7ED9B0-65C0-483B-AC45-6F5BFBD0F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E2E705-1BB4-4B14-8A45-FEE231E4F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E26043-7ED9-426D-A24F-1BFA2012E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7CBF52-E780-4D81-8F8D-7D5492FE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30E5B9-BFF1-458D-B18A-24254112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036A65-E604-445E-BB15-635E3B67B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B9E052-C15C-4723-9AC6-72E1325A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A889FC2-D287-4574-BEDC-E51674EE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E23DA2-FFCF-4597-9732-BB4F3428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C4E0-4EFA-4519-861B-A56621C6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582A9-8478-4A0F-8944-96B8AC19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25B855-2664-4A4E-856C-09A5C6F3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D0BD8A-3A70-4B9D-9B6F-33B35A2B4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D71297-1728-4E1E-B60F-5E4BBFB71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739726-D1CC-47B6-A8A1-262845762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7A2908-3E9B-4EC6-BE70-356EBB09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1A744A-4BF4-4705-B22B-039BBB778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5ABF4E-4B9B-4772-A282-B7A4E312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9747A4-9DD4-49A3-B1DF-AAE3A814F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9C71C3-9BFC-4051-A388-1F491B0F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49E664-F545-4B4B-BF52-FA047ECA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E3C8B-4B4E-43BE-97B3-55C47B48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FFC4FE-33F0-48E8-B5B7-D1259FC32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067D9F-9BCF-40CB-926E-4A8FE050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9A5169-20B4-4185-A6AD-12CE49D4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58868A-2E01-477B-A192-025A35BB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B15626-228E-4129-9D90-9D3741FE2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2AC56A-1B98-4D6B-B1AD-0AF5A1CF2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D0F0F9-176F-42FB-9562-043623D86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F161F3-FD20-490E-8981-4CFE9E7BE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6CF6D5-99FC-4172-97DC-2414A247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A8C872-C7A3-4FAA-98D3-89E82573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6BAF-6A72-49A2-8491-211DB3C23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23F87D-332A-42C9-ACEA-0974D43F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C0929A-5B3E-48AD-8D58-53D1C531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9EF2D3-7500-49FC-9A53-F31924C4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3E65C5-D15A-478A-BE49-15851B69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92444A-F337-496C-9C3C-8DEABF7C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713C46-98A2-4576-B8AA-05789EAD1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F427A5-350F-4232-9269-63595FF9E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5CBE5F-CED9-448B-92A5-A855D5D71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FC4B35-A970-43F2-B5ED-1D1D49270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AB537E-C5B3-447C-8768-6E81DD19F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6746B-E5FC-47B1-865E-17D937C86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7AE522-752F-4F1C-82ED-CE6D90280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DF7D71-B0BD-49C4-B2F4-6D8BAEA5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EB3FEC-0F62-4648-8C26-3FA2C1B41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74250D-E930-4AA4-B88E-00375658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097680-37AC-413C-8C81-FE3B8D805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641B71-F903-4FC9-B7B4-FF67C868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773760-0A79-4DC9-A5C4-1E82F318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E54C4B-7A87-4DBF-8D65-101DEC48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030AC9-245C-43FD-9453-604E1E27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8512A2-13CD-4518-A65F-AAFDC7688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8343-1085-4E75-B16C-509F33F46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7F9CBD-4573-47AF-8559-8D9A19ECA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77EAD3-39BE-468F-9819-DBD128B9C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EAD406-4297-4A5C-AB33-66C4CF68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67EDE0-6A18-431D-BFF9-686E01C6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C80744-DC24-4CBA-B009-FE0246A7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0D85CF-DCC9-4B61-97CB-25C30C55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A70F80-5145-4B24-9CBA-A367DBC4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CCED08-D160-4496-869C-E5151D4F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106AD1-4122-40F1-ABE4-8A96F6B7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621A4C-12CE-4A4E-8FEE-70D52073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AA388-0B9E-4507-BC3F-2B0E9E631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528D5A-3647-4CB1-995D-20F53DD06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B22511-BE7A-480C-875B-88537A9B2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6580F5-496D-4AE0-A6BC-5C9E4D9F9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DCE9EC-3ECF-409B-91B8-82A5E5560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A589A2-E522-4780-8E0B-1CB657B41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F352FD-ABF0-410B-BE18-4FF007B22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798410-B136-4D72-9AFF-4D1F31AA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508163-72A1-4E74-989D-D2E0638B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8D9281-18D9-4162-8136-A351B922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82B124-D8C0-487C-A402-6A9600D9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D21DA-2506-4954-A96E-9AA24164D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E6D3C0-7600-4EC8-88F6-9F850110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2CCBCE-92CB-414C-8C10-974161FA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541339-3D74-4B7B-B048-4FBB5DEB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EDC8E2-D704-4318-81C2-ACF5316A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751D1D-4C3A-4364-A7F5-06E3F61F2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982776-714D-4871-8708-F76992E2F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C948B9-2D24-4377-9EF5-4B150864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AE0698-B1E9-43A4-AB15-A7AB8BBD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26EFE0-EE45-4B16-965B-28A457F0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19DEFE-88D7-45DA-B52B-D93E4E2E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DD0B6-9C46-42A1-95FA-73E0E0D7A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304E7D-5D4E-4A7F-9409-20926EED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110CC9-F371-4AB5-A5D2-A25A26BD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EEC336-4F23-4822-B9D7-8096514E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A82B970-A499-4143-BE10-41445BF3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C6482A-B0E3-44B7-995D-E146EE3B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2AA875-ED92-498B-84E6-04E6C21B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A83F86-B6C4-41EE-A977-9435500CD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0DD03C-23FC-4FC3-BA9A-40DC24555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162E46B-2CEC-4951-8606-7C6853C7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0A0D951-A543-4E12-903A-9904A27FB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EB4E6-ECA7-4FA1-B46D-1977515EB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BB1EB5-F951-4700-AA5F-D3B76F3E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EC7788-82BE-45DE-B792-C0A4E5EC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DBA8BB-621E-4475-8164-459E8418F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F660E8-DD64-42DC-A22F-93BEBC02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86EC17-5400-421A-AB3F-35C49AEE6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5FE694-FBBA-48B6-AA14-AC099F048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44D3A9-77B8-4C77-A7DE-8A6280AB0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18BA1C-B9F1-49E3-B187-64F799933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CC362B-D3FD-4236-A1B5-F78249A88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BD0BB8-10CC-4F2F-91B2-5CEBDC159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27AAE-6DD7-479C-8782-EAF026EA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39DE89F-A000-433D-82CC-80F9FB46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0455D14-DF7F-448F-AE7D-694994DB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F3CF48-90AF-4BF8-9E64-43CD2B7C0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17E41B-7321-4103-A68D-02D52C053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93298F-3190-405B-A2CF-EB6D6290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55F372-1087-45E4-B96E-5ED3B0C2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30BE63-0165-4B95-8CF4-63126509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3980EE-0A05-4F5B-ADAD-63D4EF475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C02193-548B-4E03-BB20-1FF1EBC09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478501-DD9F-4295-A075-AF4E483F6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66D8-AC8D-42B2-AB5C-2DF61534D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2D265-0FD8-4215-8427-5B6901CE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E294EA-7C2D-4F87-8B83-ACC30E4DF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D97F51-7B93-4ABD-8A7D-596F4590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9074BE-AEF3-4B41-9C67-B2D4D4B6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6D3119-50CB-4C5B-A26B-3AF582A70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467872-F00D-4F76-82EE-DD636707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C4B955-1D75-4945-B461-BE472C74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870184-5DC2-401E-BBA3-4C6EF2DC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A67BA6-77A8-4827-8D16-30EC2157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0C1B0E-292C-4C63-95D6-5033B460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827A54F-5CCE-4909-90D5-93E48B14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5BDF7-39BA-40C9-9C62-3E1972FF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FB975FF-B6FC-4903-B733-2023F325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6B258E-91A9-4715-8169-1E6F1313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2742FF-70F3-4E5D-95BB-B5CB0F0DD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15A42BF-F614-44A6-A2F2-A3ED621D7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F4C3B83-C363-4DF7-A66E-A5077A33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DBE111-3F51-4A9A-A5EC-44DFEED99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DD320EC-568E-495E-905F-7EE252282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A2BF1F9-177C-45FD-8C4C-06982432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BA6B859-02F8-4586-91C9-587ED5975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713392-E139-4B11-8C9A-26A21BAF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F0723-21AF-47F3-A8D7-A3BBBCB8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168150C-2754-4AC2-A0BB-738AD97D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C2096BC-D68F-4727-868B-CE25C41A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AD563C8-86B4-4D18-91D6-1D78D7BED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976838-1424-4452-B402-019D3AAAF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F9256AD-02E9-451F-BBC6-B55EB4DD3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1F1D332-5C1E-4F3D-8C79-12F8BC480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A74A715-F046-4A4A-A457-39D734A2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A6300D2-9350-466A-A5FE-971817832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5E4AE87-81F5-4CE7-AB28-AE4677C1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C29F53-6796-4265-98CD-601678AF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FA443-B1DD-47A7-B9CA-C4DB9B05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765972-3F58-45CF-BBA5-E5804829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1F1D10-E10E-4166-959C-EDCBA70F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1468B23-14F8-4CF2-9C14-83D29DE88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02DB0FE-A0B4-4B5F-ACC2-D71D8529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EF93F17-80B4-4493-99F1-8F24E372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52CE64A-3E8F-45B7-8A13-44720208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9D32B7B-67EA-428D-9AEF-460218B78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54DCE9F-3816-4632-9195-D65B907E2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F27A411-0A0B-43BF-96D8-DD7F6A926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6222A6D-F55C-4DB9-BBB0-D5DF530E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B675F-5106-4BB1-BA3A-5E4C90B7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06114A1-BE17-4748-A741-9F560C1C6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04AA109-8378-4AFF-BA11-36AE0EA6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983E161-A606-4B3D-AAFD-7EA69A1B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3D62412-37DE-48B3-8947-50FF405A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DB8D615-8A30-4A99-AF89-24AB39976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0FEB386-7E15-411B-B67B-FE69EE15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1D16856-137E-4CEF-A968-4DAE5241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F097E9F-B114-412A-8003-6F9611F31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D36CD71-EFFD-4DCD-9B3D-7A6B7E402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39E398-358B-45F1-939B-96CA97435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168D4-243F-430D-A0AE-93DB6D389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F7ADCD7-B1E1-479A-BB6B-8D6AED1A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1937244-2E87-43E4-9510-A15B16AA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9A867F0-F10D-4359-89F3-8703165A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B8BA289-944E-4848-B0F8-AED5C53D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023D048-7463-4352-8C28-466BDA3D0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C09FE8-6AF3-4E6E-9064-3DA778CF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82CA84-2A19-4A52-9A95-4A13C3B1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6D5D914-FE1A-4AE6-8C21-28198EC6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7662704-9BA3-4FE7-A4BE-3CB52AFC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0ED796E-8964-481B-B889-4EB8123E0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80EE5-D0B1-4BB4-BA0D-96E614BF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073CBA7-E2F2-476C-B24D-65BC601FE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6FF4181-FF53-48E0-A995-F6C2DB0DA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013F300-4232-430E-A2D0-7C769628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539DC8C-FB9C-4B13-A8C8-A70E3037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ACA3070-A1C1-4373-A39B-636AEB24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2C6F174-48B9-4273-8183-0936DA1D6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35DA6A9-C2A6-44CA-9876-74657FA59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213ADD6-69FC-43A6-8D4D-B0C2EAE0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09758DC-13B2-4DC6-9562-A1F03006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2B6EA44-BBBE-4908-A51A-3102290AB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BD7F7-BB61-4DE7-94C2-4748D6A41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CEB6535-FC20-4F0C-9B43-5F4F36045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E948955-249A-49E9-A4CC-FF00F642B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0123C71-99D7-44AC-95B6-C4A3E5FA9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A2C5B-7D6D-449E-A94C-F9E4A17E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80850-5BFB-4FF9-9F33-0709030D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19E9-D31D-4C54-BCD5-09AF8287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A4A72-F68E-4EE6-9793-A06734D4D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A0C9A-786A-4DC8-8452-9CA0A4B7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77295-53C0-4707-91B7-E9FFE0F8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D6B415-805E-49A8-BF26-6AF857B9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2FE47-6E7D-4D53-B815-83DE808E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92257-3F50-4EE4-A48B-627081FF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6BE43-49D5-4A36-A08A-1E82FB410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226EE-0332-42DF-95E1-3E6B83BDF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2BD16-CD83-41DF-B76F-C3D6C9879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BAC19D-EC8C-4A08-876F-0AB594D7E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18BF-AD41-4801-9B06-C715940CE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76312-F5BB-4AA9-B211-299D337A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3C6B6-C943-46C0-8769-52E12A47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69572-AC21-4072-9653-7D596520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CFF7B-6549-4108-8FFA-8357C260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7ABDE-E38C-40DE-AB37-779E535B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DD599F-30BF-4F7D-981D-BE618907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777BBB-F8EB-49D7-BF7C-C36FC5FB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D747C-4CA0-4E75-984A-4477AF70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C2ADC-A34D-4D6E-917E-4021488C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F3F0A-A7EF-4E9B-BC20-599DF597A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4FED-3AB5-4D31-8839-C516EAD1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A56C3-DD16-4613-A555-BE0DA7B35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09D9D-78BD-49AD-9F57-C826BE56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BC82D-E030-4088-991D-101D1BFB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01095-9089-4B28-A043-69DE43896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3F354-F856-45B3-A719-52DD51574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DAB526-C6E4-4A0E-9E75-199BFC58D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E5C5E-6D49-4CD5-9A08-64C366F9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8CE68-7EE6-48D5-9236-28D1AEF8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9DE6F-E5EE-49C5-86FD-DDAC2D0F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3D831-80AF-484A-AEAC-3A5B5185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9A43-61ED-4726-B034-E1B5ED4A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106FF-B972-4F54-91F5-7B2DFF66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681F7-E6EF-4F9C-A16F-EA9869208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C9BC4-A6A5-46D5-B91A-21503A5AA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3726F-AD4E-4744-B89A-865B92F4E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EEFB8-2898-409E-B5B9-AB0542DAC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315252-8CCE-433D-9C07-71071950D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30CAE-AF07-41EA-BA5C-078EF473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93F91-8C6D-412F-B776-04CC34E79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158DE-52B1-4B1C-A12E-18908D4E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4194B-0DEC-4ABE-9DF8-87D36CC4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DD93-460B-4C34-87C4-36EA0B52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4F65A6-77F8-4B0C-A85F-9610A3F4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E0A7B-A0BF-49CC-B946-6C50EB998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D7D99-A5DA-465A-871C-2895A6640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E60694-6A55-4EF2-9934-4C677F18D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AFDF7-602B-4C9C-A449-83E93E727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AAB857-CF6C-4A88-A34A-BB5199D72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E296F-4694-4AA5-B6C7-B4D85159E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80E91-34E9-4C3F-A078-6939CE6A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913521-2E82-48C6-BC76-40E67208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FC2E8A-71F3-44D2-9DAF-9AD46436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18D2-CBE7-448B-A970-D9CF5564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7FC845-4580-4628-8F3F-8ADCF04C8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1CA02-6ACA-4A44-AD37-5BE0DEC8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E68720-7F91-4E8E-B34B-996F7ABA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2FBD32-295B-4F7E-9711-837859A1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28D5D-0BD2-4999-A65F-CF48E00D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798C2-B94E-4C02-8EEA-410C15DCA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CE681-C6E7-4CE5-BB9D-59F3FB9F8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25830-FF67-4430-A33C-D28C94246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FDB0B0-C317-49AC-BC1A-A5EED7B19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0C6E2-27A2-452D-9ED2-99CA49AE7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EF78-42DC-4291-BF49-8B53090EDF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3B951-B22B-4D76-AA85-E7E5C45E41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E7F7-32D8-4D1E-A699-CAFD9FA28E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4BC2-CCDE-4EC9-8DC4-3D52FF06EBB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8CAF7-E1A9-44B0-AF93-4EBFE94D91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BE21-D088-400C-95E2-5ED60D176E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BEF7-D3A7-434F-ACC0-2C70B5321B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EC14-E780-4782-A76C-AFC7C68895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4B85-554E-4B95-BBA0-13950CAE226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4CAD3-09DA-4E8E-B36A-44D3B091B9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96849-BC5B-45B4-B789-697E0C71D0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5200-7FA2-46E9-8EFB-C8F8DD65E5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F6BC-123B-4C5A-AF75-203D6DB718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FF29-0D16-4ACF-87AE-717A12805F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873A-1AA8-4425-B6D8-5BFDE1D97A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41F74-ACA8-4654-8133-24566978FF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1274F-350D-4117-85B7-BDFBE66A10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DE08E-424D-4DFA-9ADF-D79F7F0580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214D-6784-4877-BD5E-4E534773F9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D7D5-2738-4CAD-B250-B4E721BDFD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21B5B-48FA-4AC5-9FAA-D8C22F3297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7C79-8375-42D5-8581-8BA7C7712C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0EFB7-D808-4389-9AD5-83735118BA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25E1-8B1C-407A-A54E-4C1F0C0211F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C38D-6E5C-4A46-9028-7EA757B951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11B4-CE35-418C-B4C2-A88689A247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A58F-96F0-4C20-B1A6-8CB4A5E353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3C58-DA47-4381-BF46-603A90AEBD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4FF8-0F85-41F7-8FDF-96D85A7C32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12C6-8F26-4E4E-BE1F-983C0A8174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2D528-FE2C-4239-984B-A2253B2D7C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E402-6F16-4E43-8C4C-72DEA59649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184E7-8EAF-4F80-ABDA-F52E9EE222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248DB-B008-4428-B01E-2492FF16A2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45DB3-F376-43F8-947B-31C48CFC9E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D56A8-9534-490B-BEB7-92458C21C0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FA80-099A-4B49-810A-6C84671C59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50CFD-56FE-41EF-9B9A-D95CC3B908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64FE-F299-4545-9755-6C8230ECC7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666B1-751E-425C-9EFA-7CC613A518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0CE2-70C8-4812-AD6F-B6BA0C093F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AB41-B367-4967-8BAC-E48981DEEA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0688-63AF-471F-9BC3-C7A1E00E28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2365-526D-4C5F-B32A-3707D85B88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F352-3B12-4FEB-8525-9B1AD03572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DAA8E-BD60-4B68-81A1-130CDFF679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29583-1CF5-4A54-B147-CCC4C6C10D8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67DC9-E431-4312-873D-C7429D0D6B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D9F73-4846-446C-8469-D2851523FE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1D1B-E8C3-4552-917B-A279353CDD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3276720" y="1773360"/>
            <a:ext cx="1857240" cy="67608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2" descr=""/>
          <p:cNvPicPr/>
          <p:nvPr/>
        </p:nvPicPr>
        <p:blipFill>
          <a:blip r:embed="rId2"/>
          <a:stretch/>
        </p:blipFill>
        <p:spPr>
          <a:xfrm>
            <a:off x="1486080" y="3024360"/>
            <a:ext cx="6172200" cy="80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4" name="图片 116737" descr=""/>
          <p:cNvPicPr/>
          <p:nvPr/>
        </p:nvPicPr>
        <p:blipFill>
          <a:blip r:embed="rId1"/>
          <a:stretch/>
        </p:blipFill>
        <p:spPr>
          <a:xfrm>
            <a:off x="495360" y="2219400"/>
            <a:ext cx="8153280" cy="24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图片 115713" descr=""/>
          <p:cNvPicPr/>
          <p:nvPr/>
        </p:nvPicPr>
        <p:blipFill>
          <a:blip r:embed="rId1"/>
          <a:stretch/>
        </p:blipFill>
        <p:spPr>
          <a:xfrm>
            <a:off x="438120" y="2109960"/>
            <a:ext cx="826776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6" name="图片 114689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7934400" cy="5600880"/>
          </a:xfrm>
          <a:prstGeom prst="rect">
            <a:avLst/>
          </a:prstGeom>
          <a:ln w="0">
            <a:noFill/>
          </a:ln>
        </p:spPr>
      </p:pic>
      <p:sp>
        <p:nvSpPr>
          <p:cNvPr id="1477" name="矩形 114690"/>
          <p:cNvSpPr/>
          <p:nvPr/>
        </p:nvSpPr>
        <p:spPr>
          <a:xfrm>
            <a:off x="865080" y="1003320"/>
            <a:ext cx="608328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114691"/>
          <p:cNvSpPr/>
          <p:nvPr/>
        </p:nvSpPr>
        <p:spPr>
          <a:xfrm>
            <a:off x="1271520" y="1447920"/>
            <a:ext cx="6540480" cy="3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114692"/>
          <p:cNvSpPr/>
          <p:nvPr/>
        </p:nvSpPr>
        <p:spPr>
          <a:xfrm>
            <a:off x="1093680" y="1905120"/>
            <a:ext cx="6540480" cy="587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114693"/>
          <p:cNvSpPr/>
          <p:nvPr/>
        </p:nvSpPr>
        <p:spPr>
          <a:xfrm>
            <a:off x="1055520" y="2577960"/>
            <a:ext cx="654084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114695"/>
          <p:cNvSpPr/>
          <p:nvPr/>
        </p:nvSpPr>
        <p:spPr>
          <a:xfrm>
            <a:off x="954000" y="3492360"/>
            <a:ext cx="6540480" cy="7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矩形 114696"/>
          <p:cNvSpPr/>
          <p:nvPr/>
        </p:nvSpPr>
        <p:spPr>
          <a:xfrm>
            <a:off x="1258920" y="4368960"/>
            <a:ext cx="608328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矩形 114697"/>
          <p:cNvSpPr/>
          <p:nvPr/>
        </p:nvSpPr>
        <p:spPr>
          <a:xfrm>
            <a:off x="1563840" y="4851360"/>
            <a:ext cx="6895800" cy="67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114698"/>
          <p:cNvSpPr/>
          <p:nvPr/>
        </p:nvSpPr>
        <p:spPr>
          <a:xfrm>
            <a:off x="1335240" y="5702400"/>
            <a:ext cx="608328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114699"/>
          <p:cNvSpPr/>
          <p:nvPr/>
        </p:nvSpPr>
        <p:spPr>
          <a:xfrm>
            <a:off x="1449360" y="6159600"/>
            <a:ext cx="629136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6" name="图片 113665" descr=""/>
          <p:cNvPicPr/>
          <p:nvPr/>
        </p:nvPicPr>
        <p:blipFill>
          <a:blip r:embed="rId1"/>
          <a:stretch/>
        </p:blipFill>
        <p:spPr>
          <a:xfrm>
            <a:off x="476280" y="1762200"/>
            <a:ext cx="81914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7" name="图片 112641" descr=""/>
          <p:cNvPicPr/>
          <p:nvPr/>
        </p:nvPicPr>
        <p:blipFill>
          <a:blip r:embed="rId1"/>
          <a:stretch/>
        </p:blipFill>
        <p:spPr>
          <a:xfrm>
            <a:off x="542880" y="1085760"/>
            <a:ext cx="805824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8" name="图片 111617" descr=""/>
          <p:cNvPicPr/>
          <p:nvPr/>
        </p:nvPicPr>
        <p:blipFill>
          <a:blip r:embed="rId1"/>
          <a:stretch/>
        </p:blipFill>
        <p:spPr>
          <a:xfrm>
            <a:off x="604800" y="2000160"/>
            <a:ext cx="7934400" cy="2857680"/>
          </a:xfrm>
          <a:prstGeom prst="rect">
            <a:avLst/>
          </a:prstGeom>
          <a:ln w="0">
            <a:noFill/>
          </a:ln>
        </p:spPr>
      </p:pic>
      <p:sp>
        <p:nvSpPr>
          <p:cNvPr id="1489" name="矩形 111618"/>
          <p:cNvSpPr/>
          <p:nvPr/>
        </p:nvSpPr>
        <p:spPr>
          <a:xfrm>
            <a:off x="1944720" y="2959200"/>
            <a:ext cx="111456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0" name="图片 110593" descr=""/>
          <p:cNvPicPr/>
          <p:nvPr/>
        </p:nvPicPr>
        <p:blipFill>
          <a:blip r:embed="rId1"/>
          <a:stretch/>
        </p:blipFill>
        <p:spPr>
          <a:xfrm>
            <a:off x="771480" y="1038240"/>
            <a:ext cx="7601040" cy="4781520"/>
          </a:xfrm>
          <a:prstGeom prst="rect">
            <a:avLst/>
          </a:prstGeom>
          <a:ln w="0">
            <a:noFill/>
          </a:ln>
        </p:spPr>
      </p:pic>
      <p:sp>
        <p:nvSpPr>
          <p:cNvPr id="1491" name="矩形 110594"/>
          <p:cNvSpPr/>
          <p:nvPr/>
        </p:nvSpPr>
        <p:spPr>
          <a:xfrm>
            <a:off x="1386000" y="1015920"/>
            <a:ext cx="3906720" cy="4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110595"/>
          <p:cNvSpPr/>
          <p:nvPr/>
        </p:nvSpPr>
        <p:spPr>
          <a:xfrm>
            <a:off x="1868400" y="1473120"/>
            <a:ext cx="6375600" cy="443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110596"/>
          <p:cNvSpPr/>
          <p:nvPr/>
        </p:nvSpPr>
        <p:spPr>
          <a:xfrm>
            <a:off x="1754280" y="1968480"/>
            <a:ext cx="6375240" cy="442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110597"/>
          <p:cNvSpPr/>
          <p:nvPr/>
        </p:nvSpPr>
        <p:spPr>
          <a:xfrm>
            <a:off x="1754280" y="2489040"/>
            <a:ext cx="6375240" cy="5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110598"/>
          <p:cNvSpPr/>
          <p:nvPr/>
        </p:nvSpPr>
        <p:spPr>
          <a:xfrm>
            <a:off x="1792440" y="3149640"/>
            <a:ext cx="6375240" cy="855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矩形 110599"/>
          <p:cNvSpPr/>
          <p:nvPr/>
        </p:nvSpPr>
        <p:spPr>
          <a:xfrm>
            <a:off x="1589040" y="4076640"/>
            <a:ext cx="6375600" cy="779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矩形 110600"/>
          <p:cNvSpPr/>
          <p:nvPr/>
        </p:nvSpPr>
        <p:spPr>
          <a:xfrm>
            <a:off x="1690560" y="4876920"/>
            <a:ext cx="6375600" cy="442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矩形 110601"/>
          <p:cNvSpPr/>
          <p:nvPr/>
        </p:nvSpPr>
        <p:spPr>
          <a:xfrm>
            <a:off x="1779480" y="5334120"/>
            <a:ext cx="6375600" cy="442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2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7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9" name="图片 109569" descr=""/>
          <p:cNvPicPr/>
          <p:nvPr/>
        </p:nvPicPr>
        <p:blipFill>
          <a:blip r:embed="rId1"/>
          <a:stretch/>
        </p:blipFill>
        <p:spPr>
          <a:xfrm>
            <a:off x="614520" y="2224080"/>
            <a:ext cx="7914960" cy="2409840"/>
          </a:xfrm>
          <a:prstGeom prst="rect">
            <a:avLst/>
          </a:prstGeom>
          <a:ln w="0">
            <a:noFill/>
          </a:ln>
        </p:spPr>
      </p:pic>
      <p:sp>
        <p:nvSpPr>
          <p:cNvPr id="1500" name="矩形 109570"/>
          <p:cNvSpPr/>
          <p:nvPr/>
        </p:nvSpPr>
        <p:spPr>
          <a:xfrm>
            <a:off x="1538280" y="3162240"/>
            <a:ext cx="69944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矩形 109571"/>
          <p:cNvSpPr/>
          <p:nvPr/>
        </p:nvSpPr>
        <p:spPr>
          <a:xfrm>
            <a:off x="1576440" y="3657600"/>
            <a:ext cx="699444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矩形 109572"/>
          <p:cNvSpPr/>
          <p:nvPr/>
        </p:nvSpPr>
        <p:spPr>
          <a:xfrm>
            <a:off x="1589040" y="4140360"/>
            <a:ext cx="6994440" cy="398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图片 124929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191440" cy="5229000"/>
          </a:xfrm>
          <a:prstGeom prst="rect">
            <a:avLst/>
          </a:prstGeom>
          <a:ln w="0">
            <a:noFill/>
          </a:ln>
        </p:spPr>
      </p:pic>
      <p:sp>
        <p:nvSpPr>
          <p:cNvPr id="1435" name="矩形 124930"/>
          <p:cNvSpPr/>
          <p:nvPr/>
        </p:nvSpPr>
        <p:spPr>
          <a:xfrm>
            <a:off x="7380360" y="2565360"/>
            <a:ext cx="28728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矩形 124931"/>
          <p:cNvSpPr/>
          <p:nvPr/>
        </p:nvSpPr>
        <p:spPr>
          <a:xfrm>
            <a:off x="4522680" y="3987720"/>
            <a:ext cx="554040" cy="233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4932"/>
          <p:cNvSpPr/>
          <p:nvPr/>
        </p:nvSpPr>
        <p:spPr>
          <a:xfrm>
            <a:off x="4446720" y="4470480"/>
            <a:ext cx="1204920" cy="627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124933"/>
          <p:cNvSpPr/>
          <p:nvPr/>
        </p:nvSpPr>
        <p:spPr>
          <a:xfrm>
            <a:off x="4897440" y="5397480"/>
            <a:ext cx="754200" cy="2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4934"/>
          <p:cNvSpPr/>
          <p:nvPr/>
        </p:nvSpPr>
        <p:spPr>
          <a:xfrm>
            <a:off x="5678640" y="5892840"/>
            <a:ext cx="658800" cy="2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0" name="图片 123905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499104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1" name="图片 122881" descr=""/>
          <p:cNvPicPr/>
          <p:nvPr/>
        </p:nvPicPr>
        <p:blipFill>
          <a:blip r:embed="rId1"/>
          <a:stretch/>
        </p:blipFill>
        <p:spPr>
          <a:xfrm>
            <a:off x="333360" y="1152360"/>
            <a:ext cx="8477280" cy="4553280"/>
          </a:xfrm>
          <a:prstGeom prst="rect">
            <a:avLst/>
          </a:prstGeom>
          <a:ln w="0">
            <a:noFill/>
          </a:ln>
        </p:spPr>
      </p:pic>
      <p:sp>
        <p:nvSpPr>
          <p:cNvPr id="1442" name="矩形 122882"/>
          <p:cNvSpPr/>
          <p:nvPr/>
        </p:nvSpPr>
        <p:spPr>
          <a:xfrm>
            <a:off x="8155080" y="2666880"/>
            <a:ext cx="40644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2883"/>
          <p:cNvSpPr/>
          <p:nvPr/>
        </p:nvSpPr>
        <p:spPr>
          <a:xfrm>
            <a:off x="8129520" y="4165560"/>
            <a:ext cx="40644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122884"/>
          <p:cNvSpPr/>
          <p:nvPr/>
        </p:nvSpPr>
        <p:spPr>
          <a:xfrm>
            <a:off x="8155080" y="5079960"/>
            <a:ext cx="406440" cy="273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图片 121857" descr=""/>
          <p:cNvPicPr/>
          <p:nvPr/>
        </p:nvPicPr>
        <p:blipFill>
          <a:blip r:embed="rId1"/>
          <a:stretch/>
        </p:blipFill>
        <p:spPr>
          <a:xfrm>
            <a:off x="309600" y="947880"/>
            <a:ext cx="8524800" cy="4962240"/>
          </a:xfrm>
          <a:prstGeom prst="rect">
            <a:avLst/>
          </a:prstGeom>
          <a:ln w="0">
            <a:noFill/>
          </a:ln>
        </p:spPr>
      </p:pic>
      <p:sp>
        <p:nvSpPr>
          <p:cNvPr id="1446" name="矩形 121858"/>
          <p:cNvSpPr/>
          <p:nvPr/>
        </p:nvSpPr>
        <p:spPr>
          <a:xfrm>
            <a:off x="649440" y="2184480"/>
            <a:ext cx="428292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121859"/>
          <p:cNvSpPr/>
          <p:nvPr/>
        </p:nvSpPr>
        <p:spPr>
          <a:xfrm>
            <a:off x="649440" y="2552760"/>
            <a:ext cx="4282920" cy="48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矩形 121860"/>
          <p:cNvSpPr/>
          <p:nvPr/>
        </p:nvSpPr>
        <p:spPr>
          <a:xfrm>
            <a:off x="1017720" y="3086280"/>
            <a:ext cx="6146640" cy="284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121861"/>
          <p:cNvSpPr/>
          <p:nvPr/>
        </p:nvSpPr>
        <p:spPr>
          <a:xfrm>
            <a:off x="852480" y="3403440"/>
            <a:ext cx="6146640" cy="28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121862"/>
          <p:cNvSpPr/>
          <p:nvPr/>
        </p:nvSpPr>
        <p:spPr>
          <a:xfrm>
            <a:off x="852480" y="3708360"/>
            <a:ext cx="6146640" cy="588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矩形 121863"/>
          <p:cNvSpPr/>
          <p:nvPr/>
        </p:nvSpPr>
        <p:spPr>
          <a:xfrm>
            <a:off x="878040" y="4368960"/>
            <a:ext cx="614664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矩形 121864"/>
          <p:cNvSpPr/>
          <p:nvPr/>
        </p:nvSpPr>
        <p:spPr>
          <a:xfrm>
            <a:off x="1068480" y="4876920"/>
            <a:ext cx="4282920" cy="298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矩形 121865"/>
          <p:cNvSpPr/>
          <p:nvPr/>
        </p:nvSpPr>
        <p:spPr>
          <a:xfrm>
            <a:off x="1144440" y="5181480"/>
            <a:ext cx="753120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矩形 121866"/>
          <p:cNvSpPr/>
          <p:nvPr/>
        </p:nvSpPr>
        <p:spPr>
          <a:xfrm>
            <a:off x="1055520" y="5537160"/>
            <a:ext cx="7531200" cy="335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图片 120833" descr=""/>
          <p:cNvPicPr/>
          <p:nvPr/>
        </p:nvPicPr>
        <p:blipFill>
          <a:blip r:embed="rId1"/>
          <a:stretch/>
        </p:blipFill>
        <p:spPr>
          <a:xfrm>
            <a:off x="438120" y="1085760"/>
            <a:ext cx="8267760" cy="46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6" name="图片 119809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7962840" cy="5515200"/>
          </a:xfrm>
          <a:prstGeom prst="rect">
            <a:avLst/>
          </a:prstGeom>
          <a:ln w="0">
            <a:noFill/>
          </a:ln>
        </p:spPr>
      </p:pic>
      <p:sp>
        <p:nvSpPr>
          <p:cNvPr id="1457" name="矩形 119810"/>
          <p:cNvSpPr/>
          <p:nvPr/>
        </p:nvSpPr>
        <p:spPr>
          <a:xfrm>
            <a:off x="903240" y="1066680"/>
            <a:ext cx="7340760" cy="4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矩形 119811"/>
          <p:cNvSpPr/>
          <p:nvPr/>
        </p:nvSpPr>
        <p:spPr>
          <a:xfrm>
            <a:off x="1081080" y="1625760"/>
            <a:ext cx="7340760" cy="45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119812"/>
          <p:cNvSpPr/>
          <p:nvPr/>
        </p:nvSpPr>
        <p:spPr>
          <a:xfrm>
            <a:off x="1093680" y="2070000"/>
            <a:ext cx="7340760" cy="451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119813"/>
          <p:cNvSpPr/>
          <p:nvPr/>
        </p:nvSpPr>
        <p:spPr>
          <a:xfrm>
            <a:off x="992160" y="2629080"/>
            <a:ext cx="7340760" cy="691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矩形 119814"/>
          <p:cNvSpPr/>
          <p:nvPr/>
        </p:nvSpPr>
        <p:spPr>
          <a:xfrm>
            <a:off x="941400" y="3479760"/>
            <a:ext cx="734076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19815"/>
          <p:cNvSpPr/>
          <p:nvPr/>
        </p:nvSpPr>
        <p:spPr>
          <a:xfrm>
            <a:off x="890640" y="4419720"/>
            <a:ext cx="734040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矩形 119816"/>
          <p:cNvSpPr/>
          <p:nvPr/>
        </p:nvSpPr>
        <p:spPr>
          <a:xfrm>
            <a:off x="1246320" y="5207040"/>
            <a:ext cx="7340400" cy="45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矩形 119817"/>
          <p:cNvSpPr/>
          <p:nvPr/>
        </p:nvSpPr>
        <p:spPr>
          <a:xfrm>
            <a:off x="1449360" y="5715000"/>
            <a:ext cx="7340760" cy="45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矩形 119818"/>
          <p:cNvSpPr/>
          <p:nvPr/>
        </p:nvSpPr>
        <p:spPr>
          <a:xfrm>
            <a:off x="1386000" y="6222960"/>
            <a:ext cx="7340400" cy="45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6" name="图片 118785" descr=""/>
          <p:cNvPicPr/>
          <p:nvPr/>
        </p:nvPicPr>
        <p:blipFill>
          <a:blip r:embed="rId1"/>
          <a:stretch/>
        </p:blipFill>
        <p:spPr>
          <a:xfrm>
            <a:off x="433440" y="1628640"/>
            <a:ext cx="8277120" cy="3600720"/>
          </a:xfrm>
          <a:prstGeom prst="rect">
            <a:avLst/>
          </a:prstGeom>
          <a:ln w="0">
            <a:noFill/>
          </a:ln>
        </p:spPr>
      </p:pic>
      <p:sp>
        <p:nvSpPr>
          <p:cNvPr id="1467" name="矩形 118786"/>
          <p:cNvSpPr/>
          <p:nvPr/>
        </p:nvSpPr>
        <p:spPr>
          <a:xfrm>
            <a:off x="7875720" y="4254480"/>
            <a:ext cx="4064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图片 117761" descr=""/>
          <p:cNvPicPr/>
          <p:nvPr/>
        </p:nvPicPr>
        <p:blipFill>
          <a:blip r:embed="rId1"/>
          <a:stretch/>
        </p:blipFill>
        <p:spPr>
          <a:xfrm>
            <a:off x="457200" y="890640"/>
            <a:ext cx="8229600" cy="5076720"/>
          </a:xfrm>
          <a:prstGeom prst="rect">
            <a:avLst/>
          </a:prstGeom>
          <a:ln w="0">
            <a:noFill/>
          </a:ln>
        </p:spPr>
      </p:pic>
      <p:sp>
        <p:nvSpPr>
          <p:cNvPr id="1469" name="矩形 117762"/>
          <p:cNvSpPr/>
          <p:nvPr/>
        </p:nvSpPr>
        <p:spPr>
          <a:xfrm>
            <a:off x="2567160" y="4559400"/>
            <a:ext cx="135720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117763"/>
          <p:cNvSpPr/>
          <p:nvPr/>
        </p:nvSpPr>
        <p:spPr>
          <a:xfrm>
            <a:off x="5716440" y="4533840"/>
            <a:ext cx="4064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117764"/>
          <p:cNvSpPr/>
          <p:nvPr/>
        </p:nvSpPr>
        <p:spPr>
          <a:xfrm>
            <a:off x="3456000" y="5054760"/>
            <a:ext cx="406440" cy="33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117765"/>
          <p:cNvSpPr/>
          <p:nvPr/>
        </p:nvSpPr>
        <p:spPr>
          <a:xfrm>
            <a:off x="2592360" y="5549760"/>
            <a:ext cx="4064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117766"/>
          <p:cNvSpPr/>
          <p:nvPr/>
        </p:nvSpPr>
        <p:spPr>
          <a:xfrm>
            <a:off x="7392960" y="5562720"/>
            <a:ext cx="406440" cy="336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7:53:38Z</dcterms:modified>
  <cp:revision>3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